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4B9B-7E85-47B5-B1D1-832362A7BCA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CB98-C900-4F44-BC83-AC2AD2FA9BC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E1DB6-D2F5-4525-BA4E-FDA0FA2BE5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1041A-35ED-40C3-B41F-14C41E4250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118B1-3834-4B0B-AE58-BAE61039CB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D6468-8C9D-4BC6-910B-322237A0B2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A7DE0-47F8-4969-934A-4F6821D7E2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675BB-AEF8-4ABA-A9F2-C37C3BD3A2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FC812-6E74-433B-9EF2-3425B2F0DA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6F01B-8E18-4787-85C5-EFC8BE2E25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49036-5B55-49F6-92C6-366A51A97C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C48BC-5814-4B19-92E6-DDF802E3B7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60E5E-71F9-429D-85DD-17605F2FA9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F1634-46AF-494C-97E5-55708A1EB1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943600"/>
            <a:ext cx="9158400" cy="9144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51040" y="6073920"/>
            <a:ext cx="6769080" cy="4413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80"/>
                </a:solidFill>
                <a:latin typeface="Arial"/>
              </a:rPr>
              <a:t>MARCO GLOBAL DE LA GESTIÓN DE RR.HH. BASADA EN COMPETENCI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80"/>
                </a:solidFill>
                <a:latin typeface="Arial"/>
              </a:rPr>
              <a:t>Uso Docente en MBA DII-Uchi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5F1D-C8B5-42F4-B516-9618E979E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3047760" cy="3048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581280" y="1143000"/>
            <a:ext cx="4496040" cy="36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cc"/>
                </a:solidFill>
                <a:latin typeface="Impact"/>
              </a:rPr>
              <a:t>Marco Global de la              Gestión de Recursos Humanos                 basada en Competenc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572000"/>
            <a:ext cx="4114800" cy="10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cc"/>
                </a:solidFill>
                <a:latin typeface="Impact"/>
              </a:rPr>
              <a:t>Gestión de Recursos Hum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cc"/>
                </a:solidFill>
                <a:latin typeface="Impact"/>
              </a:rPr>
              <a:t>Prof. Cristian Binimel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cc"/>
                </a:solidFill>
                <a:latin typeface="Impac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5638680"/>
            <a:ext cx="43434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M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 </a:t>
            </a: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457200" y="1676520"/>
            <a:ext cx="7695720" cy="3047400"/>
            <a:chOff x="457200" y="1676520"/>
            <a:chExt cx="7695720" cy="3047400"/>
          </a:xfrm>
        </p:grpSpPr>
        <p:sp>
          <p:nvSpPr>
            <p:cNvPr id="140" name=""/>
            <p:cNvSpPr/>
            <p:nvPr/>
          </p:nvSpPr>
          <p:spPr>
            <a:xfrm>
              <a:off x="1338840" y="1676520"/>
              <a:ext cx="6814080" cy="3047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entury Gothic"/>
                </a:rPr>
                <a:t>La Competencia Laboral es la capacidad manifiesta por una persona para realizar un trabajo productivo aplicando recursos, de manera que cumpla con los estándares de desempeño exigidos en los criterios y condiciones de ejecución del producto, y satisfaga las necesidades y exigencias del clien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2469240"/>
              <a:ext cx="5612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1219320" y="60948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oncepto de Compe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3560" y="609480"/>
            <a:ext cx="5317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990720" y="1371600"/>
            <a:ext cx="380880" cy="76212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954920" y="2725560"/>
            <a:ext cx="274680" cy="195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entury Gothic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53320" y="2568600"/>
            <a:ext cx="704880" cy="2116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86480" y="3417840"/>
            <a:ext cx="19047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Century Gothic"/>
              </a:rPr>
              <a:t>RESULTADO</a:t>
            </a:r>
            <a:r>
              <a:rPr b="0" lang="es-CL" sz="1600" spc="-1" strike="noStrike">
                <a:solidFill>
                  <a:srgbClr val="000000"/>
                </a:solidFill>
                <a:latin typeface="Century Gothic"/>
              </a:rPr>
              <a:t>:    </a:t>
            </a:r>
            <a:r>
              <a:rPr b="0" lang="es-CL" sz="1400" spc="-1" strike="noStrike">
                <a:solidFill>
                  <a:srgbClr val="000000"/>
                </a:solidFill>
                <a:latin typeface="Century Gothic"/>
              </a:rPr>
              <a:t>Servicio,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91240" y="3592440"/>
            <a:ext cx="368640" cy="206280"/>
          </a:xfrm>
          <a:prstGeom prst="rightArrow">
            <a:avLst>
              <a:gd name="adj1" fmla="val 50000"/>
              <a:gd name="adj2" fmla="val 446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11520" y="3516480"/>
            <a:ext cx="163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Century Gothic"/>
              </a:rPr>
              <a:t>PRACTICAS DE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59240" y="4255920"/>
            <a:ext cx="2255760" cy="62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8892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Century Gothic"/>
              </a:rPr>
              <a:t>Criterios de Calidad del Proc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35200" y="3232080"/>
            <a:ext cx="1662120" cy="107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54120" y="2732040"/>
            <a:ext cx="182232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entury Gothic"/>
              </a:rPr>
              <a:t>Conocimi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entury Gothic"/>
              </a:rPr>
              <a:t>Habilid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entury Gothic"/>
              </a:rPr>
              <a:t>Atributos Pers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888800">
            <a:off x="3092040" y="3188880"/>
            <a:ext cx="547560" cy="128520"/>
          </a:xfrm>
          <a:prstGeom prst="rightArrow">
            <a:avLst>
              <a:gd name="adj1" fmla="val 50000"/>
              <a:gd name="adj2" fmla="val 1065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9455000">
            <a:off x="3066840" y="4179600"/>
            <a:ext cx="547560" cy="106200"/>
          </a:xfrm>
          <a:prstGeom prst="rightArrow">
            <a:avLst>
              <a:gd name="adj1" fmla="val 50000"/>
              <a:gd name="adj2" fmla="val 1288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95640" y="1676520"/>
            <a:ext cx="3159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entury Gothic"/>
              </a:rPr>
              <a:t>FACTORES DE CAMB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73200" y="5530680"/>
            <a:ext cx="711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entury Gothic"/>
              </a:rPr>
              <a:t>* </a:t>
            </a:r>
            <a:r>
              <a:rPr b="0" i="1" lang="es-ES_tradnl" sz="1400" spc="-1" strike="noStrike">
                <a:solidFill>
                  <a:srgbClr val="000000"/>
                </a:solidFill>
                <a:latin typeface="Century Gothic"/>
              </a:rPr>
              <a:t>Siempre hay un cliente quien justifica la existencia de una a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63840" y="2438280"/>
            <a:ext cx="1630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Century Gothic"/>
              </a:rPr>
              <a:t>RECURS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609480"/>
            <a:ext cx="7959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lementos del Concepto de Compe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11720" y="3668760"/>
            <a:ext cx="380880" cy="206280"/>
          </a:xfrm>
          <a:prstGeom prst="rightArrow">
            <a:avLst>
              <a:gd name="adj1" fmla="val 50000"/>
              <a:gd name="adj2" fmla="val 461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78000" y="3646440"/>
            <a:ext cx="520920" cy="152280"/>
          </a:xfrm>
          <a:prstGeom prst="rightArrow">
            <a:avLst>
              <a:gd name="adj1" fmla="val 50000"/>
              <a:gd name="adj2" fmla="val 8552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5368800">
            <a:off x="4349160" y="151920"/>
            <a:ext cx="609480" cy="3962520"/>
          </a:xfrm>
          <a:custGeom>
            <a:avLst/>
            <a:gdLst>
              <a:gd name="textAreaLeft" fmla="*/ 0 w 609480"/>
              <a:gd name="textAreaRight" fmla="*/ 219960 w 60948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4038480"/>
            <a:ext cx="1828800" cy="62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Century Gothic"/>
              </a:rPr>
              <a:t>Atributos de Va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Century Gothic"/>
              </a:rPr>
              <a:t>Criterios de Satisfa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990720" y="1371600"/>
            <a:ext cx="533160" cy="38088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0200" y="609480"/>
            <a:ext cx="7603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752480" y="1447920"/>
            <a:ext cx="67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Gothic"/>
              </a:rPr>
              <a:t>Saber actuar y Reaccionar en forma responsable y validada en un contexto profesional particular, es dec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3124080"/>
            <a:ext cx="1447560" cy="1739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entury Gothic"/>
              </a:rPr>
              <a:t>Saber Movilizar Integrar y Transfer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68720" y="3124080"/>
            <a:ext cx="2089080" cy="1600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entury Gothic"/>
              </a:rPr>
              <a:t>Recursos 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(Conocimientos, Habilidades, y Actitud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03840" y="3135240"/>
            <a:ext cx="2754360" cy="2974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entury Gothic"/>
              </a:rPr>
              <a:t>Para Resolver problemas en un contexto laboral particular, cumpliendo estándares o criterios de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3276720"/>
            <a:ext cx="457200" cy="12189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5711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60948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oncepto de Compe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3560" y="609480"/>
            <a:ext cx="5317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990720" y="1371600"/>
            <a:ext cx="533160" cy="38088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3276720"/>
            <a:ext cx="457200" cy="12189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5711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28800" y="1295280"/>
            <a:ext cx="6095880" cy="41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entury Gothic"/>
              </a:rPr>
              <a:t>Empezar por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4272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entury Gothic"/>
              </a:rPr>
              <a:t>Procesos críticos para el nuevo período de gest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4272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entury Gothic"/>
              </a:rPr>
              <a:t>Cargos muy sensibles para el logro de los objetivos en el nuevo período de gest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4272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entury Gothic"/>
              </a:rPr>
              <a:t>Áreas centrales en la cadena de valor de la organiz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4272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entury Gothic"/>
              </a:rPr>
              <a:t>Unidades en las cuales existen condiciones para una óptima implementación del modelo, a modo de pilo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22200" y="55080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Por donde empez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28600" y="1168560"/>
            <a:ext cx="8204040" cy="126720"/>
            <a:chOff x="228600" y="1168560"/>
            <a:chExt cx="8204040" cy="12672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228600" y="1168560"/>
              <a:ext cx="8204040" cy="12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1174680" y="116856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990720" y="1295280"/>
            <a:ext cx="761760" cy="38124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98480" y="474840"/>
            <a:ext cx="4968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304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99cc"/>
                </a:solidFill>
                <a:latin typeface="Impact"/>
              </a:rPr>
              <a:t>cómo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000" spc="-1" strike="noStrike">
                <a:solidFill>
                  <a:srgbClr val="0099cc"/>
                </a:solidFill>
                <a:latin typeface="Impact"/>
              </a:rPr>
              <a:t>identificar las competencias</a:t>
            </a: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 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</a:t>
            </a:r>
            <a:r>
              <a:rPr b="0" lang="es-ES" sz="2000" spc="-1" strike="noStrike">
                <a:solidFill>
                  <a:srgbClr val="000099"/>
                </a:solidFill>
                <a:latin typeface="Arial"/>
              </a:rPr>
              <a:t>ueden utilizarse diversas técnicas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combinadas o no</a:t>
            </a:r>
            <a:r>
              <a:rPr b="0" lang="es-ES" sz="20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371600" y="2209680"/>
            <a:ext cx="6857640" cy="1981080"/>
            <a:chOff x="1371600" y="2209680"/>
            <a:chExt cx="6857640" cy="1981080"/>
          </a:xfrm>
        </p:grpSpPr>
        <p:sp>
          <p:nvSpPr>
            <p:cNvPr id="193" name=""/>
            <p:cNvSpPr/>
            <p:nvPr/>
          </p:nvSpPr>
          <p:spPr>
            <a:xfrm>
              <a:off x="1371600" y="2209680"/>
              <a:ext cx="2099160" cy="9248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00"/>
                  </a:solidFill>
                  <a:latin typeface="Arial"/>
                </a:rPr>
                <a:t>Análisis </a:t>
              </a: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Estra</a:t>
              </a:r>
              <a:r>
                <a:rPr b="0" lang="es-CL" sz="2000" spc="-1" strike="noStrike">
                  <a:solidFill>
                    <a:srgbClr val="cc0000"/>
                  </a:solidFill>
                  <a:latin typeface="Arial"/>
                </a:rPr>
                <a:t>tég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50480" y="2209680"/>
              <a:ext cx="2099160" cy="9248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Panel de Exper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30080" y="3266280"/>
              <a:ext cx="2099160" cy="9244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bserv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600" y="3266280"/>
              <a:ext cx="2099160" cy="9244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Entrevist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750480" y="3266280"/>
              <a:ext cx="2099160" cy="9244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00"/>
                  </a:solidFill>
                  <a:latin typeface="Arial"/>
                </a:rPr>
                <a:t>Be</a:t>
              </a:r>
              <a:r>
                <a:rPr b="0" lang="es-CL" sz="2000" spc="-1" strike="noStrike">
                  <a:solidFill>
                    <a:srgbClr val="cc0000"/>
                  </a:solidFill>
                  <a:latin typeface="Arial"/>
                </a:rPr>
                <a:t>n</a:t>
              </a:r>
              <a:r>
                <a:rPr b="0" lang="es-ES" sz="2000" spc="-1" strike="noStrike">
                  <a:solidFill>
                    <a:srgbClr val="cc0000"/>
                  </a:solidFill>
                  <a:latin typeface="Arial"/>
                </a:rPr>
                <a:t>chmark</a:t>
              </a:r>
              <a:r>
                <a:rPr b="0" lang="es-CL" sz="2000" spc="-1" strike="noStrike">
                  <a:solidFill>
                    <a:srgbClr val="cc0000"/>
                  </a:solidFill>
                  <a:latin typeface="Arial"/>
                </a:rPr>
                <a:t>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00"/>
                  </a:solidFill>
                  <a:latin typeface="Arial"/>
                </a:rPr>
                <a:t>Estánda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30080" y="2209680"/>
              <a:ext cx="2099160" cy="9248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00"/>
                  </a:solidFill>
                  <a:latin typeface="Arial"/>
                </a:rPr>
                <a:t>Anális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00"/>
                  </a:solidFill>
                  <a:latin typeface="Arial"/>
                </a:rPr>
                <a:t>Funcional</a:t>
              </a:r>
              <a:r>
                <a:rPr b="0" lang="es-CL" sz="2000" spc="-1" strike="noStrike">
                  <a:solidFill>
                    <a:srgbClr val="cc0000"/>
                  </a:solidFill>
                  <a:latin typeface="Arial"/>
                </a:rPr>
                <a:t> y de Proces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228600" y="1143000"/>
            <a:ext cx="8204040" cy="127080"/>
            <a:chOff x="228600" y="1143000"/>
            <a:chExt cx="8204040" cy="127080"/>
          </a:xfrm>
        </p:grpSpPr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228600" y="114300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1174680" y="114300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765720" y="533520"/>
            <a:ext cx="44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Impact"/>
              </a:rPr>
              <a:t>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90720" y="609480"/>
            <a:ext cx="784836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99cc"/>
                </a:solidFill>
                <a:latin typeface="Impact"/>
              </a:rPr>
              <a:t>nálisis Funcional, para Identificar competenci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609480"/>
            <a:ext cx="5731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90720" y="1371600"/>
            <a:ext cx="304560" cy="30492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1295280" y="1317600"/>
            <a:ext cx="73915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entury Gothic"/>
              </a:rPr>
              <a:t>Metodología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066680" y="2438280"/>
            <a:ext cx="7086600" cy="1905120"/>
            <a:chOff x="1066680" y="2438280"/>
            <a:chExt cx="7086600" cy="1905120"/>
          </a:xfrm>
        </p:grpSpPr>
        <p:sp>
          <p:nvSpPr>
            <p:cNvPr id="211" name=""/>
            <p:cNvSpPr/>
            <p:nvPr/>
          </p:nvSpPr>
          <p:spPr>
            <a:xfrm>
              <a:off x="1066680" y="2438280"/>
              <a:ext cx="7086600" cy="190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48120" y="3276720"/>
              <a:ext cx="1214280" cy="27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FUNCI</a:t>
              </a:r>
              <a:r>
                <a:rPr b="1" lang="es-CL" sz="1200" spc="-1" strike="noStrike">
                  <a:solidFill>
                    <a:srgbClr val="000000"/>
                  </a:solidFill>
                  <a:latin typeface="Arial Narrow"/>
                </a:rPr>
                <a:t>ÓN CLA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24480" y="3276720"/>
              <a:ext cx="13716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UN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DE COMPETE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72000" y="3276720"/>
              <a:ext cx="1465200" cy="27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FUNCI</a:t>
              </a:r>
              <a:r>
                <a:rPr b="1" lang="es-CL" sz="1200" spc="-1" strike="noStrike">
                  <a:solidFill>
                    <a:srgbClr val="000000"/>
                  </a:solidFill>
                  <a:latin typeface="Arial Narrow"/>
                </a:rPr>
                <a:t>ÓN PRINCIP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23880" y="3276720"/>
              <a:ext cx="1219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PROPÓSI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97160" y="2638440"/>
              <a:ext cx="264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¿Qué hay que hacer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46520" y="3781440"/>
              <a:ext cx="15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¿Para qué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743200" y="3352680"/>
              <a:ext cx="228600" cy="152640"/>
            </a:xfrm>
            <a:prstGeom prst="rightArrow">
              <a:avLst>
                <a:gd name="adj1" fmla="val 50000"/>
                <a:gd name="adj2" fmla="val 3744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352680"/>
              <a:ext cx="228600" cy="152640"/>
            </a:xfrm>
            <a:prstGeom prst="rightArrow">
              <a:avLst>
                <a:gd name="adj1" fmla="val 50000"/>
                <a:gd name="adj2" fmla="val 3744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019920" y="3352680"/>
              <a:ext cx="228600" cy="152640"/>
            </a:xfrm>
            <a:prstGeom prst="rightArrow">
              <a:avLst>
                <a:gd name="adj1" fmla="val 50000"/>
                <a:gd name="adj2" fmla="val 3744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67280" y="2819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90920" y="28702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34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3124080" y="39751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143000" y="1219320"/>
            <a:ext cx="7238880" cy="39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9080" indent="-289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Century Gothic"/>
              </a:rPr>
              <a:t>Recomendaciones para su identificació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ertinentes y Vig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sponden al futuro deseado (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Traducen misi</a:t>
            </a:r>
            <a:r>
              <a:rPr b="1" lang="es-CL" sz="1600" spc="-1" strike="noStrike">
                <a:solidFill>
                  <a:srgbClr val="000000"/>
                </a:solidFill>
                <a:latin typeface="Century Gothic"/>
              </a:rPr>
              <a:t>ó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n, objetivos, valores, cultura)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ransvers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istintiv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Uso frecu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atisface una necesidad funcional (es demandad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Balanceadas.  (Cuadro de Mando Integr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49068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Competencias G</a:t>
            </a:r>
            <a:r>
              <a:rPr b="0" lang="es-CL" sz="3200" spc="-1" strike="noStrike">
                <a:solidFill>
                  <a:srgbClr val="0099cc"/>
                </a:solidFill>
                <a:latin typeface="Impact"/>
              </a:rPr>
              <a:t>enér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28600" y="1143000"/>
            <a:ext cx="8204040" cy="127080"/>
            <a:chOff x="228600" y="1143000"/>
            <a:chExt cx="8204040" cy="127080"/>
          </a:xfrm>
        </p:grpSpPr>
        <p:pic>
          <p:nvPicPr>
            <p:cNvPr id="228" name="" descr=""/>
            <p:cNvPicPr/>
            <p:nvPr/>
          </p:nvPicPr>
          <p:blipFill>
            <a:blip r:embed="rId1"/>
            <a:stretch/>
          </p:blipFill>
          <p:spPr>
            <a:xfrm>
              <a:off x="228600" y="114300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1174680" y="114300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2193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xisten muchos formatos para describir las normas de competencias, ¿pero cuáles son los componentes indispensabl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3040" y="2133720"/>
            <a:ext cx="495144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Nombre de la compe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324480" y="2133720"/>
            <a:ext cx="18288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ódi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71600" y="2390760"/>
            <a:ext cx="6781680" cy="59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Descrip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73040" y="3022560"/>
            <a:ext cx="6782040" cy="292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riterio de desempeño / Indicador condu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3040" y="3352680"/>
            <a:ext cx="6782040" cy="777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1.1 Criterio de desempeñ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1.2 Criterio de desempeñ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1.3 Criterio de desempeño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86000" y="4191120"/>
            <a:ext cx="6767280" cy="1066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2.1 Criterio de desempeñ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2.2 Criterio de desempeñ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2.3 Criterio de desempeño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2.4 Criterio de desempeño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11430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c</a:t>
            </a:r>
            <a:r>
              <a:rPr b="1" lang="es-ES" sz="3000" spc="-1" strike="noStrike">
                <a:solidFill>
                  <a:srgbClr val="0099cc"/>
                </a:solidFill>
                <a:latin typeface="Impact"/>
              </a:rPr>
              <a:t>ómo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3000" spc="-1" strike="noStrike">
                <a:solidFill>
                  <a:srgbClr val="0099cc"/>
                </a:solidFill>
                <a:latin typeface="Impact"/>
              </a:rPr>
              <a:t>definir </a:t>
            </a:r>
            <a:r>
              <a:rPr b="1" lang="es-ES" sz="3000" spc="-1" strike="noStrike">
                <a:solidFill>
                  <a:srgbClr val="0099cc"/>
                </a:solidFill>
                <a:latin typeface="Impact"/>
              </a:rPr>
              <a:t>competencias</a:t>
            </a: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 ? </a:t>
            </a: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	</a:t>
            </a:r>
            <a:r>
              <a:rPr b="1" lang="en-US" sz="2200" spc="-1" strike="noStrike">
                <a:solidFill>
                  <a:srgbClr val="0099cc"/>
                </a:solidFill>
                <a:latin typeface="Impact"/>
              </a:rPr>
              <a:t>1 de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228600" y="1143000"/>
            <a:ext cx="8204040" cy="127080"/>
            <a:chOff x="228600" y="1143000"/>
            <a:chExt cx="8204040" cy="1270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228600" y="114300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1174680" y="114300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821520" y="533520"/>
            <a:ext cx="44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Otros componentes que se utilizan son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47920" y="2273400"/>
            <a:ext cx="685800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ampo de apl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Situaciones, condiciones, herrami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47920" y="1866960"/>
            <a:ext cx="3429000" cy="342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echa de real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76920" y="1866960"/>
            <a:ext cx="3429000" cy="342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Vig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47920" y="2781360"/>
            <a:ext cx="685800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Guía de Evid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Observación, experiencia, productos de trabajo, pruebas, testimon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47920" y="3276720"/>
            <a:ext cx="685800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Lista de Conocimientos y conduc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47920" y="3784680"/>
            <a:ext cx="685800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Guía de evalu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Métodos, procedimientos, herrami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4280040"/>
            <a:ext cx="685800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Guía de desarrol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ursos, lecturas, ejerc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47920" y="4775040"/>
            <a:ext cx="685800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Diccion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Definiciones de conceptos cla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11430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c</a:t>
            </a:r>
            <a:r>
              <a:rPr b="1" lang="es-ES" sz="3000" spc="-1" strike="noStrike">
                <a:solidFill>
                  <a:srgbClr val="0099cc"/>
                </a:solidFill>
                <a:latin typeface="Impact"/>
              </a:rPr>
              <a:t>ómo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3000" spc="-1" strike="noStrike">
                <a:solidFill>
                  <a:srgbClr val="0099cc"/>
                </a:solidFill>
                <a:latin typeface="Impact"/>
              </a:rPr>
              <a:t>definir </a:t>
            </a:r>
            <a:r>
              <a:rPr b="1" lang="es-ES" sz="3000" spc="-1" strike="noStrike">
                <a:solidFill>
                  <a:srgbClr val="0099cc"/>
                </a:solidFill>
                <a:latin typeface="Impact"/>
              </a:rPr>
              <a:t>competencias</a:t>
            </a: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 ? </a:t>
            </a:r>
            <a:r>
              <a:rPr b="1" lang="en-US" sz="2600" spc="-1" strike="noStrike">
                <a:solidFill>
                  <a:srgbClr val="0099cc"/>
                </a:solidFill>
                <a:latin typeface="Impact"/>
              </a:rPr>
              <a:t>	</a:t>
            </a:r>
            <a:r>
              <a:rPr b="1" lang="en-US" sz="2600" spc="-1" strike="noStrike">
                <a:solidFill>
                  <a:srgbClr val="0099cc"/>
                </a:solidFill>
                <a:latin typeface="Impact"/>
              </a:rPr>
              <a:t> </a:t>
            </a:r>
            <a:r>
              <a:rPr b="1" lang="en-US" sz="2000" spc="-1" strike="noStrike">
                <a:solidFill>
                  <a:srgbClr val="0099cc"/>
                </a:solidFill>
                <a:latin typeface="Impact"/>
              </a:rPr>
              <a:t>2 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28600" y="1143000"/>
            <a:ext cx="8204040" cy="127080"/>
            <a:chOff x="228600" y="1143000"/>
            <a:chExt cx="8204040" cy="12708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228600" y="114300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1174680" y="114300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821520" y="533520"/>
            <a:ext cx="44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1218960" y="12193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Respecto de los componentes que utilizaremos en la descripción de competencias?</a:t>
            </a:r>
            <a:r>
              <a:rPr b="1" lang="es-CL" sz="16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Consideremos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-259920">
              <a:lnSpc>
                <a:spcPct val="19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Que sean desafiantes, pero no amenazante</a:t>
            </a: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-259920">
              <a:lnSpc>
                <a:spcPct val="19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Que dialogue</a:t>
            </a: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, sea homologable</a:t>
            </a: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con las best practic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-259920">
              <a:lnSpc>
                <a:spcPct val="19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Que interprete</a:t>
            </a: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nuestra cultura, que </a:t>
            </a: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no conduzcan a dobles interpretaciones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-259920">
              <a:lnSpc>
                <a:spcPct val="19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Que facilite</a:t>
            </a: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la posterior implementación de otras aplicaciones de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Gx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-259920">
              <a:lnSpc>
                <a:spcPct val="19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Que pueda</a:t>
            </a: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ser </a:t>
            </a: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objeto de actualización contínua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-259920">
              <a:lnSpc>
                <a:spcPct val="19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Que no sea burocrá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-259920">
              <a:lnSpc>
                <a:spcPct val="19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Que sea un instrumento, no un fin en sí mism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c</a:t>
            </a:r>
            <a:r>
              <a:rPr b="1" lang="es-ES" sz="3000" spc="-1" strike="noStrike">
                <a:solidFill>
                  <a:srgbClr val="0099cc"/>
                </a:solidFill>
                <a:latin typeface="Impact"/>
              </a:rPr>
              <a:t>ómo </a:t>
            </a:r>
            <a:r>
              <a:rPr b="1" lang="es-CL" sz="3000" spc="-1" strike="noStrike">
                <a:solidFill>
                  <a:srgbClr val="0099cc"/>
                </a:solidFill>
                <a:latin typeface="Impact"/>
              </a:rPr>
              <a:t>definir </a:t>
            </a:r>
            <a:r>
              <a:rPr b="1" lang="es-ES" sz="3000" spc="-1" strike="noStrike">
                <a:solidFill>
                  <a:srgbClr val="0099cc"/>
                </a:solidFill>
                <a:latin typeface="Impact"/>
              </a:rPr>
              <a:t>competencias</a:t>
            </a: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 ?    </a:t>
            </a: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	</a:t>
            </a:r>
            <a:r>
              <a:rPr b="1" lang="en-US" sz="2200" spc="-1" strike="noStrike">
                <a:solidFill>
                  <a:srgbClr val="0099cc"/>
                </a:solidFill>
                <a:latin typeface="Impact"/>
              </a:rPr>
              <a:t>3 de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28600" y="1143000"/>
            <a:ext cx="8204040" cy="127080"/>
            <a:chOff x="228600" y="1143000"/>
            <a:chExt cx="8204040" cy="127080"/>
          </a:xfrm>
        </p:grpSpPr>
        <p:pic>
          <p:nvPicPr>
            <p:cNvPr id="259" name="" descr=""/>
            <p:cNvPicPr/>
            <p:nvPr/>
          </p:nvPicPr>
          <p:blipFill>
            <a:blip r:embed="rId1"/>
            <a:stretch/>
          </p:blipFill>
          <p:spPr>
            <a:xfrm>
              <a:off x="228600" y="114300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1174680" y="114300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048320" y="457200"/>
            <a:ext cx="44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22240" y="11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1492200"/>
            <a:ext cx="6781680" cy="32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9080" indent="-289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Reconoce el rol de las actitudes (</a:t>
            </a: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querer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Las competencias permiten relacionar las prácticas de trabajo con la estrategia institu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Conlleva uniformar las prácticas de RR.HH. y conduce a una Gestión integrada de los RR.H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Reconoce diferentes accesos al k-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63640" y="64296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Por qué Modelo de Compe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828800" y="1371600"/>
            <a:ext cx="6095880" cy="41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Empezar por las competencias de </a:t>
            </a:r>
            <a:r>
              <a:rPr b="1" lang="es-CL" sz="1600" spc="-1" strike="noStrike">
                <a:solidFill>
                  <a:srgbClr val="000000"/>
                </a:solidFill>
                <a:latin typeface="Century Gothic"/>
              </a:rPr>
              <a:t>un cargo 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más “sensibles” para asegurar el objetivo institucional o del</a:t>
            </a:r>
            <a:r>
              <a:rPr b="1" lang="es-CL" sz="1600" spc="-1" strike="noStrike">
                <a:solidFill>
                  <a:srgbClr val="000000"/>
                </a:solidFill>
                <a:latin typeface="Century Gothic"/>
              </a:rPr>
              <a:t> área analizada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, aplicando el siguiente ord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42720">
              <a:lnSpc>
                <a:spcPct val="17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Describiendo el cargo en términos de ejes de competencias y sus recursos asociad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42720">
              <a:lnSpc>
                <a:spcPct val="17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Definiendo las prácticas asociadas y sus respectivos criterios y evidencias de desempeñ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42720">
              <a:lnSpc>
                <a:spcPct val="17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Identificando estándares o indicadores para cada práct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22200" y="55080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ompetencias en un car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28600" y="1168560"/>
            <a:ext cx="8204040" cy="126720"/>
            <a:chOff x="228600" y="1168560"/>
            <a:chExt cx="8204040" cy="126720"/>
          </a:xfrm>
        </p:grpSpPr>
        <p:pic>
          <p:nvPicPr>
            <p:cNvPr id="265" name="" descr=""/>
            <p:cNvPicPr/>
            <p:nvPr/>
          </p:nvPicPr>
          <p:blipFill>
            <a:blip r:embed="rId1"/>
            <a:stretch/>
          </p:blipFill>
          <p:spPr>
            <a:xfrm>
              <a:off x="228600" y="1168560"/>
              <a:ext cx="8204040" cy="12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174680" y="116856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990720" y="1295280"/>
            <a:ext cx="761760" cy="38124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98480" y="474840"/>
            <a:ext cx="4968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295280" y="1371600"/>
            <a:ext cx="7188480" cy="46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1. Misión princip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2. Resultados esperados en servicios y/o produc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3. Factores de Camb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4. Principales competenci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- Expresadas como “ser capaz de + verbo de 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- Ubicadas sobre ejes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- Con criterios, evidencias y campos de apl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5. Los principales “Recurso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- Recursos person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* Conocimi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* Habilidades (ser capaz de..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- Recursos del entorno (Banco de Datos, Sistemas de sopor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46240" y="685800"/>
            <a:ext cx="73882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l contenido de una descripción de car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98480" y="687240"/>
            <a:ext cx="4968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28600" y="1295280"/>
            <a:ext cx="8204040" cy="127080"/>
            <a:chOff x="228600" y="1295280"/>
            <a:chExt cx="8204040" cy="127080"/>
          </a:xfrm>
        </p:grpSpPr>
        <p:pic>
          <p:nvPicPr>
            <p:cNvPr id="273" name="" descr=""/>
            <p:cNvPicPr/>
            <p:nvPr/>
          </p:nvPicPr>
          <p:blipFill>
            <a:blip r:embed="rId1"/>
            <a:stretch/>
          </p:blipFill>
          <p:spPr>
            <a:xfrm>
              <a:off x="228600" y="129528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174680" y="129528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798480" y="687240"/>
            <a:ext cx="4968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90720" y="1371600"/>
            <a:ext cx="228600" cy="22860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822240" y="11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38080" y="533520"/>
            <a:ext cx="7388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cc"/>
                </a:solidFill>
                <a:latin typeface="Impact"/>
              </a:rPr>
              <a:t>Factores de Camb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19320" y="1711440"/>
            <a:ext cx="70866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9080" indent="-289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Variables de contexto que determinan que la competencia se modifique en el tiem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93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281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822240" y="11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1711440"/>
            <a:ext cx="708660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9080" indent="-289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onjunto de tareas relacion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93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8080" y="533520"/>
            <a:ext cx="7388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cc"/>
                </a:solidFill>
                <a:latin typeface="Impact"/>
              </a:rPr>
              <a:t>Pr</a:t>
            </a:r>
            <a:r>
              <a:rPr b="0" lang="es-CL" sz="3600" spc="-1" strike="noStrike">
                <a:solidFill>
                  <a:srgbClr val="0099cc"/>
                </a:solidFill>
                <a:latin typeface="Impact"/>
              </a:rPr>
              <a:t>á</a:t>
            </a:r>
            <a:r>
              <a:rPr b="0" lang="es-ES_tradnl" sz="3600" spc="-1" strike="noStrike">
                <a:solidFill>
                  <a:srgbClr val="0099cc"/>
                </a:solidFill>
                <a:latin typeface="Impact"/>
              </a:rPr>
              <a:t>cticas de Trabaj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287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295280" y="1371600"/>
            <a:ext cx="7162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8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Descripciones que especifican qué actividades realizar y cómo ejecutarlas para alcanzar una actuación compet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38080" y="533520"/>
            <a:ext cx="7388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cc"/>
                </a:solidFill>
                <a:latin typeface="Impact"/>
              </a:rPr>
              <a:t>Criterios de Desempeñ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292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295280" y="1371600"/>
            <a:ext cx="7162920" cy="36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Orientan hacia el desempeño considerado como competente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Deben considerarse contribuyentes y significativos (críticos) para alcanzar los resultados previstos y hacer referencia a la calidad que deben tener dichos resulta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Expresan el qué se espera del desempeño y el cómo se espera que sea el resultado o el desempeñ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38080" y="533520"/>
            <a:ext cx="7388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cc"/>
                </a:solidFill>
                <a:latin typeface="Impact"/>
              </a:rPr>
              <a:t>Criterios de Desempeñ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297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726200" y="534348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187280" y="1371600"/>
            <a:ext cx="711864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Gothic"/>
              </a:rPr>
              <a:t>Corresponde al contexto de trabajo específico en el cual </a:t>
            </a: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se pondrá a prueba </a:t>
            </a:r>
            <a:r>
              <a:rPr b="1" lang="es-ES_tradnl" sz="2400" spc="-1" strike="noStrike">
                <a:solidFill>
                  <a:srgbClr val="000000"/>
                </a:solidFill>
                <a:latin typeface="Century Gothic"/>
              </a:rPr>
              <a:t>el</a:t>
            </a: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 dominio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Gothic"/>
              </a:rPr>
              <a:t>una</a:t>
            </a: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 competencia</a:t>
            </a:r>
            <a:r>
              <a:rPr b="1" lang="es-ES_tradnl" sz="24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38080" y="533520"/>
            <a:ext cx="7388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cc"/>
                </a:solidFill>
                <a:latin typeface="Impact"/>
              </a:rPr>
              <a:t>Campo de Aplic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22200" y="733320"/>
            <a:ext cx="76168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cc"/>
                </a:solidFill>
                <a:latin typeface="Impact"/>
              </a:rPr>
              <a:t>jemplo de una Práctica de Trabajo y sus Crite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28600" y="1295280"/>
            <a:ext cx="8204040" cy="127080"/>
            <a:chOff x="228600" y="1295280"/>
            <a:chExt cx="8204040" cy="127080"/>
          </a:xfrm>
        </p:grpSpPr>
        <p:pic>
          <p:nvPicPr>
            <p:cNvPr id="308" name="" descr=""/>
            <p:cNvPicPr/>
            <p:nvPr/>
          </p:nvPicPr>
          <p:blipFill>
            <a:blip r:embed="rId1"/>
            <a:stretch/>
          </p:blipFill>
          <p:spPr>
            <a:xfrm>
              <a:off x="228600" y="129528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1174680" y="129528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1219320" y="1295280"/>
            <a:ext cx="6400800" cy="37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6667560"/>
                <a:tab algn="l" pos="6826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Ser capaz de enfrentar reclam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6667560"/>
                <a:tab algn="l" pos="6826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Objetivando los recla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6667560"/>
                <a:tab algn="l" pos="6826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Evitando reacciones negativas y reflejas ante la agr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6667560"/>
                <a:tab algn="l" pos="6826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Gestionando la solución a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6667560"/>
                <a:tab algn="l" pos="6826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Comunicando al cliente la gestión realizada y efectos esperados de ella (condiciones, plaz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6667560"/>
                <a:tab algn="l" pos="6826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Verificando que el cliente comprenda la respuesta y se manifieste satisfecho con la mis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98480" y="687240"/>
            <a:ext cx="4968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1371600"/>
            <a:ext cx="228600" cy="22860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848600" y="9464760"/>
            <a:ext cx="118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02120" y="9464760"/>
            <a:ext cx="515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65440" y="9575640"/>
            <a:ext cx="1828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632760" y="946476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789200" y="96440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14320" y="9634680"/>
            <a:ext cx="498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Hooghiemstra, T.; Gestión Integrada de Recursos Humanos; 1996; 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621120" y="96775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726200" y="534348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1186920" y="1218960"/>
            <a:ext cx="727092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>
              <a:lnSpc>
                <a:spcPct val="1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entury Gothic"/>
              </a:rPr>
              <a:t>Se</a:t>
            </a: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istinguen tres tipos</a:t>
            </a:r>
            <a:r>
              <a:rPr b="1" lang="es-CL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0720">
              <a:lnSpc>
                <a:spcPct val="19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Century Gothic"/>
              </a:rPr>
              <a:t>Las evidencias de conocimien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80720">
              <a:lnSpc>
                <a:spcPct val="19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Century Gothic"/>
              </a:rPr>
              <a:t>Las evidencias del proceso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corresponden a aquellas elementos que indican la calidad en la ejecución de una tarea y que son factibles de 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observación y análisis 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dentro 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del proceso de trabaj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80720">
              <a:lnSpc>
                <a:spcPct val="19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Century Gothic"/>
              </a:rPr>
              <a:t>Las evidencias del producto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corresponden a los 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resultados o productos identificables y tangibles, que pueden usarse como referentes para demostrar que 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una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 actividad fue realizad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80720" indent="0">
              <a:lnSpc>
                <a:spcPct val="1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080" y="533520"/>
            <a:ext cx="7388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cc"/>
                </a:solidFill>
                <a:latin typeface="Impact"/>
              </a:rPr>
              <a:t>Evidenc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28600" y="1219320"/>
            <a:ext cx="8204040" cy="126720"/>
            <a:chOff x="228600" y="1219320"/>
            <a:chExt cx="8204040" cy="126720"/>
          </a:xfrm>
        </p:grpSpPr>
        <p:pic>
          <p:nvPicPr>
            <p:cNvPr id="324" name="" descr=""/>
            <p:cNvPicPr/>
            <p:nvPr/>
          </p:nvPicPr>
          <p:blipFill>
            <a:blip r:embed="rId1"/>
            <a:stretch/>
          </p:blipFill>
          <p:spPr>
            <a:xfrm>
              <a:off x="228600" y="1219320"/>
              <a:ext cx="8204040" cy="12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1174680" y="12193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726200" y="534348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1447560" y="1939680"/>
            <a:ext cx="744516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04920" indent="-304920"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Cumple con los aspectos formales (plazos, formato, medios de distribución, lenguaje, legal del paí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Expone el entendimiento de la empresa acerca del negocio del cliente, el problema y su contexto y los beneficios esperados por el cliente. Expone claramente el valor (beneficio) para el cliente, los atributos diferenciadores mediante la exposición de valor agregado y únic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Expone las alternativas y justifica adecuadamente la alternativa propuesta, indicando claramente el detalle de costos involucrados en la propuesta y los beneficios que el cliente obtendrá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990720"/>
            <a:ext cx="924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b13348"/>
                </a:solidFill>
                <a:latin typeface="Century Gothic"/>
              </a:rPr>
              <a:t>Practica de Trabajo</a:t>
            </a:r>
            <a:r>
              <a:rPr b="1" lang="en-US" sz="2000" spc="-1" strike="noStrike">
                <a:solidFill>
                  <a:srgbClr val="b13348"/>
                </a:solidFill>
                <a:latin typeface="Century Gothic"/>
              </a:rPr>
              <a:t>:</a:t>
            </a:r>
            <a:r>
              <a:rPr b="1" lang="en-US" sz="2000" spc="-1" strike="noStrike">
                <a:solidFill>
                  <a:srgbClr val="000099"/>
                </a:solidFill>
                <a:latin typeface="Century Gothic"/>
              </a:rPr>
              <a:t> </a:t>
            </a:r>
            <a:r>
              <a:rPr b="1" lang="es-CL" sz="2000" spc="-1" strike="noStrike">
                <a:solidFill>
                  <a:srgbClr val="000099"/>
                </a:solidFill>
                <a:latin typeface="Century Gothic"/>
              </a:rPr>
              <a:t>Elaborar propuesta de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b13348"/>
                </a:solidFill>
                <a:latin typeface="Century Gothic"/>
              </a:rPr>
              <a:t>Criterio</a:t>
            </a:r>
            <a:r>
              <a:rPr b="1" lang="en-US" sz="1600" spc="-1" strike="noStrike">
                <a:solidFill>
                  <a:srgbClr val="b13348"/>
                </a:solidFill>
                <a:latin typeface="Century Gothic"/>
              </a:rPr>
              <a:t>:</a:t>
            </a:r>
            <a:r>
              <a:rPr b="1" lang="en-US" sz="1600" spc="-1" strike="noStrike">
                <a:solidFill>
                  <a:srgbClr val="000099"/>
                </a:solidFill>
                <a:latin typeface="Century Gothic"/>
              </a:rPr>
              <a:t> </a:t>
            </a:r>
            <a:r>
              <a:rPr b="1" lang="es-CL" sz="1600" spc="-1" strike="noStrike">
                <a:solidFill>
                  <a:srgbClr val="000099"/>
                </a:solidFill>
                <a:latin typeface="Century Gothic"/>
              </a:rPr>
              <a:t>Incorporando contenidos necesarios para la propuesta</a:t>
            </a:r>
            <a:r>
              <a:rPr b="0" lang="es-CL" sz="1800" spc="-1" strike="noStrike">
                <a:solidFill>
                  <a:srgbClr val="000099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66680" y="457200"/>
            <a:ext cx="79599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cc"/>
                </a:solidFill>
                <a:latin typeface="Impact"/>
              </a:rPr>
              <a:t>jemplo de Evidencias de Desempeño por Crite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228600" y="1092240"/>
            <a:ext cx="8204040" cy="127080"/>
            <a:chOff x="228600" y="1092240"/>
            <a:chExt cx="8204040" cy="127080"/>
          </a:xfrm>
        </p:grpSpPr>
        <p:pic>
          <p:nvPicPr>
            <p:cNvPr id="331" name="" descr=""/>
            <p:cNvPicPr/>
            <p:nvPr/>
          </p:nvPicPr>
          <p:blipFill>
            <a:blip r:embed="rId1"/>
            <a:stretch/>
          </p:blipFill>
          <p:spPr>
            <a:xfrm>
              <a:off x="228600" y="109224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1174680" y="109224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700200" y="457200"/>
            <a:ext cx="7603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22240" y="11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63640" y="64296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Por qué Modelo de Compe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143000" y="1454040"/>
            <a:ext cx="7238880" cy="38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758880" indent="-2793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Es m</a:t>
            </a: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ás efectivo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gestionar la capacidad para producir, saber qué produce el desempeño superior y potenciar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93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Enfocar en las competencias  requeridas, antes que en tareas o resultados esperados, es asumir una enfoque dinámico, que facilita el diseño proactivo y flexible del trabaj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93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93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236600" y="304920"/>
            <a:ext cx="756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roceso de evaluación y cert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304920"/>
            <a:ext cx="54288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47920" y="1066680"/>
            <a:ext cx="22860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dentificar la(s) norma(s)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ompetencia en las que se des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obtener el certifi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47920" y="1905120"/>
            <a:ext cx="22860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recolectar las evidencias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desempe</a:t>
            </a:r>
            <a:r>
              <a:rPr b="0" lang="es-CL" sz="1400" spc="-1" strike="noStrike">
                <a:solidFill>
                  <a:srgbClr val="000000"/>
                </a:solidFill>
                <a:latin typeface="Arial Narrow"/>
              </a:rPr>
              <a:t>ñ</a:t>
            </a: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o y conoc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447920" y="2743200"/>
            <a:ext cx="22860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comparar las evid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frente a</a:t>
            </a:r>
            <a:r>
              <a:rPr b="0" lang="es-CL" sz="1400" spc="-1" strike="noStrike">
                <a:solidFill>
                  <a:srgbClr val="000000"/>
                </a:solidFill>
                <a:latin typeface="Arial Narrow"/>
              </a:rPr>
              <a:t> la nor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197760" y="1981080"/>
            <a:ext cx="1904760" cy="1447920"/>
          </a:xfrm>
          <a:prstGeom prst="flowChartDecis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registrar en 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sistema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informaci</a:t>
            </a:r>
            <a:r>
              <a:rPr b="0" lang="es-CL" sz="1400" spc="-1" strike="noStrike">
                <a:solidFill>
                  <a:srgbClr val="000000"/>
                </a:solidFill>
                <a:latin typeface="Arial Narrow"/>
              </a:rPr>
              <a:t>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35000" y="3884760"/>
            <a:ext cx="14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3333cc"/>
                </a:solidFill>
                <a:latin typeface="Arial Narrow"/>
              </a:rPr>
              <a:t>Sí.  E</a:t>
            </a:r>
            <a:r>
              <a:rPr b="1" i="1" lang="es-ES" sz="1400" spc="-1" strike="noStrike">
                <a:solidFill>
                  <a:srgbClr val="3333cc"/>
                </a:solidFill>
                <a:latin typeface="Arial Narrow"/>
              </a:rPr>
              <a:t>s</a:t>
            </a:r>
            <a:r>
              <a:rPr b="1" i="1" lang="es-CL" sz="14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i="1" lang="es-ES" sz="1400" spc="-1" strike="noStrike">
                <a:solidFill>
                  <a:srgbClr val="3333cc"/>
                </a:solidFill>
                <a:latin typeface="Arial Narrow"/>
              </a:rPr>
              <a:t>compe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62040" y="3581280"/>
            <a:ext cx="1905120" cy="1143000"/>
          </a:xfrm>
          <a:prstGeom prst="flowChartDecis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Narrow"/>
              </a:rPr>
              <a:t>¿alcanza 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compet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requerida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23040" y="3683160"/>
            <a:ext cx="1066680" cy="914400"/>
          </a:xfrm>
          <a:prstGeom prst="flowChart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Exped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Narrow"/>
              </a:rPr>
              <a:t>certifi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523880" y="4952880"/>
            <a:ext cx="3429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Narrow"/>
              </a:rPr>
              <a:t>establecer las necesidades de capaci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Narrow"/>
              </a:rPr>
              <a:t>y desarrollo para alcanzar la compet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23880" y="5638680"/>
            <a:ext cx="34290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Narrow"/>
              </a:rPr>
              <a:t>efectuar las acciones de formación y desarrol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90920" y="46483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ff3300"/>
                </a:solidFill>
                <a:latin typeface="Arial Narrow"/>
              </a:rPr>
              <a:t>N</a:t>
            </a:r>
            <a:r>
              <a:rPr b="1" i="1" lang="es-ES" sz="1400" spc="-1" strike="noStrike">
                <a:solidFill>
                  <a:srgbClr val="ff3300"/>
                </a:solidFill>
                <a:latin typeface="Arial Narrow"/>
              </a:rPr>
              <a:t>o.</a:t>
            </a:r>
            <a:r>
              <a:rPr b="1" i="1" lang="es-CL" sz="1400" spc="-1" strike="noStrike">
                <a:solidFill>
                  <a:srgbClr val="ff3300"/>
                </a:solidFill>
                <a:latin typeface="Arial Narrow"/>
              </a:rPr>
              <a:t> A</a:t>
            </a:r>
            <a:r>
              <a:rPr b="1" i="1" lang="es-ES" sz="1400" spc="-1" strike="noStrike">
                <a:solidFill>
                  <a:srgbClr val="ff3300"/>
                </a:solidFill>
                <a:latin typeface="Arial Narrow"/>
              </a:rPr>
              <a:t>ún no es</a:t>
            </a:r>
            <a:r>
              <a:rPr b="1" i="1" lang="es-CL" sz="1400" spc="-1" strike="noStrike">
                <a:solidFill>
                  <a:srgbClr val="ff3300"/>
                </a:solidFill>
                <a:latin typeface="Arial Narrow"/>
              </a:rPr>
              <a:t> </a:t>
            </a:r>
            <a:r>
              <a:rPr b="1" i="1" lang="es-ES" sz="1400" spc="-1" strike="noStrike">
                <a:solidFill>
                  <a:srgbClr val="ff3300"/>
                </a:solidFill>
                <a:latin typeface="Arial Narrow"/>
              </a:rPr>
              <a:t>compe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14600" y="1676520"/>
            <a:ext cx="1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14600" y="2514600"/>
            <a:ext cx="1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14600" y="3352680"/>
            <a:ext cx="1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14600" y="4724280"/>
            <a:ext cx="1440" cy="22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14600" y="5410080"/>
            <a:ext cx="1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29000" y="4140360"/>
            <a:ext cx="19432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952880" y="579132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7162920" y="3441600"/>
            <a:ext cx="1440" cy="2362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515280" y="414036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914400" y="2235240"/>
            <a:ext cx="1440" cy="3556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295280" y="4114800"/>
            <a:ext cx="381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14400" y="2247840"/>
            <a:ext cx="5716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14400" y="5791320"/>
            <a:ext cx="5716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228600" y="939960"/>
            <a:ext cx="8204040" cy="126720"/>
            <a:chOff x="228600" y="939960"/>
            <a:chExt cx="8204040" cy="126720"/>
          </a:xfrm>
        </p:grpSpPr>
        <p:pic>
          <p:nvPicPr>
            <p:cNvPr id="360" name="" descr=""/>
            <p:cNvPicPr/>
            <p:nvPr/>
          </p:nvPicPr>
          <p:blipFill>
            <a:blip r:embed="rId1"/>
            <a:stretch/>
          </p:blipFill>
          <p:spPr>
            <a:xfrm>
              <a:off x="228600" y="939960"/>
              <a:ext cx="8204040" cy="12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1174680" y="93996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22240" y="11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1905120"/>
            <a:ext cx="3276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9080" indent="-289080">
              <a:lnSpc>
                <a:spcPct val="21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ompeti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1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ambio perman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1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rabajo m</a:t>
            </a: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ás c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omplejo y Aleato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63640" y="64296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Por qué Modelo de Compe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343400" y="2057400"/>
            <a:ext cx="838080" cy="3124080"/>
          </a:xfrm>
          <a:custGeom>
            <a:avLst/>
            <a:gdLst>
              <a:gd name="textAreaLeft" fmla="*/ 0 w 838080"/>
              <a:gd name="textAreaRight" fmla="*/ 302760 w 83808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1828800"/>
            <a:ext cx="327636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9080" indent="-289080">
              <a:lnSpc>
                <a:spcPct val="140000"/>
              </a:lnSpc>
              <a:spcBef>
                <a:spcPts val="499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entury Gothic"/>
              </a:rPr>
              <a:t>Competencias pueden convertirse en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Century Gothic"/>
              </a:rPr>
              <a:t>ventajas competitivas</a:t>
            </a:r>
            <a:r>
              <a:rPr b="1" lang="en-US" sz="2000" spc="-1" strike="noStrike">
                <a:solidFill>
                  <a:srgbClr val="000099"/>
                </a:solidFill>
                <a:latin typeface="Century Gothic"/>
              </a:rPr>
              <a:t> para las organizaciones y en factor de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Century Gothic"/>
              </a:rPr>
              <a:t>empleabilidad</a:t>
            </a:r>
            <a:r>
              <a:rPr b="1" lang="en-US" sz="2000" spc="-1" strike="noStrike">
                <a:solidFill>
                  <a:srgbClr val="000099"/>
                </a:solidFill>
                <a:latin typeface="Century Gothic"/>
              </a:rPr>
              <a:t> para los trabajadores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610480" cy="5181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38080" y="15228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Por qué Modelos de Compe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228600" y="990720"/>
            <a:ext cx="8204040" cy="126720"/>
            <a:chOff x="228600" y="990720"/>
            <a:chExt cx="8204040" cy="126720"/>
          </a:xfrm>
        </p:grpSpPr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228600" y="990720"/>
              <a:ext cx="8204040" cy="12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1174680" y="9907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62120" y="838080"/>
            <a:ext cx="7848000" cy="5029200"/>
            <a:chOff x="762120" y="838080"/>
            <a:chExt cx="7848000" cy="5029200"/>
          </a:xfrm>
        </p:grpSpPr>
        <p:sp>
          <p:nvSpPr>
            <p:cNvPr id="80" name=""/>
            <p:cNvSpPr/>
            <p:nvPr/>
          </p:nvSpPr>
          <p:spPr>
            <a:xfrm>
              <a:off x="762120" y="838080"/>
              <a:ext cx="7848000" cy="50292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711960" y="1508040"/>
              <a:ext cx="1882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a50021"/>
                  </a:solidFill>
                  <a:latin typeface="Century Gothic"/>
                </a:rPr>
                <a:t>VI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Lo qu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queremos logr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0480" y="2334600"/>
              <a:ext cx="1805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a50021"/>
                  </a:solidFill>
                  <a:latin typeface="Century Gothic"/>
                </a:rPr>
                <a:t>VAL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La forma en qu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hacemos las cos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31360" y="3178800"/>
              <a:ext cx="46195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a50021"/>
                  </a:solidFill>
                  <a:latin typeface="Century Gothic"/>
                </a:rPr>
                <a:t>ESTRATEGIA INSTITUCI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Cómo lograremos la Vis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(incluye objetivos para Unida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y/o Gcias. Funcionales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62120" y="4212000"/>
              <a:ext cx="7767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a50021"/>
                  </a:solidFill>
                  <a:latin typeface="Century Gothic"/>
                </a:rPr>
                <a:t>COMPETENCIAS CENTRALES Y DISTINTIV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En qué tenemos que ser únicos o distintivos para alcanza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nuestros objetivos y vis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44200" y="4968360"/>
              <a:ext cx="7765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a50021"/>
                  </a:solidFill>
                  <a:latin typeface="Century Gothic"/>
                </a:rPr>
                <a:t>COMPETENCIAS TRANSVERSALES Y FUNCION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En qué debe ser buena nuestra gente para sustentar nuestra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Competencias Centrales y lograr nuestros objetivos y vis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8380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Relación entre </a:t>
            </a:r>
            <a:r>
              <a:rPr b="1" lang="es-ES" sz="3000" spc="-1" strike="noStrike">
                <a:solidFill>
                  <a:srgbClr val="0099cc"/>
                </a:solidFill>
                <a:latin typeface="Impact"/>
              </a:rPr>
              <a:t>Competencias</a:t>
            </a: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 y Estrateg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22240" y="11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93600" y="642960"/>
            <a:ext cx="73882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Modelo de Competencias y Gestión de R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3095640" y="2589120"/>
            <a:ext cx="5581800" cy="1693800"/>
          </a:xfrm>
          <a:prstGeom prst="ellipse">
            <a:avLst/>
          </a:pr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8106000">
            <a:off x="3084120" y="2590920"/>
            <a:ext cx="5581800" cy="1738080"/>
          </a:xfrm>
          <a:prstGeom prst="ellipse">
            <a:avLst/>
          </a:pr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2706600">
            <a:off x="3474720" y="2500200"/>
            <a:ext cx="4878360" cy="1986120"/>
          </a:xfrm>
          <a:prstGeom prst="ellipse">
            <a:avLst/>
          </a:pr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412440" y="1468440"/>
            <a:ext cx="5304960" cy="4136040"/>
            <a:chOff x="3412440" y="1468440"/>
            <a:chExt cx="5304960" cy="4136040"/>
          </a:xfrm>
        </p:grpSpPr>
        <p:sp>
          <p:nvSpPr>
            <p:cNvPr id="96" name=""/>
            <p:cNvSpPr/>
            <p:nvPr/>
          </p:nvSpPr>
          <p:spPr>
            <a:xfrm>
              <a:off x="6892200" y="4669200"/>
              <a:ext cx="1020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REMUNERA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49600" y="5175720"/>
              <a:ext cx="1104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FORMACIÓ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DESARROLL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67480" y="4796280"/>
              <a:ext cx="892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SUCES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12440" y="3245760"/>
              <a:ext cx="9352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PLANES D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CARRER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8160" y="3258720"/>
              <a:ext cx="12992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ORGANIZA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Y ROL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759000" y="1841040"/>
              <a:ext cx="1099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EVALUA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DESEMPEÑ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13520" y="1468440"/>
              <a:ext cx="1312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SELEC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CONTRATA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22200" y="1806840"/>
              <a:ext cx="109980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DISEÑO Y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EVALUA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PUESTO D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TRABAJ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529160" y="3060720"/>
            <a:ext cx="26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Century Gothic"/>
              </a:rPr>
              <a:t>MODELO       INSTITUCIONAL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Century Gothic"/>
              </a:rPr>
              <a:t>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4181400" y="1612800"/>
            <a:ext cx="271440" cy="16344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7575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3" action="ppaction://hlinksldjump"/>
          </p:cNvPr>
          <p:cNvSpPr/>
          <p:nvPr/>
        </p:nvSpPr>
        <p:spPr>
          <a:xfrm>
            <a:off x="3911760" y="5410080"/>
            <a:ext cx="271440" cy="1638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7223040" y="4068720"/>
            <a:ext cx="271440" cy="163440"/>
          </a:xfrm>
          <a:prstGeom prst="ellipse">
            <a:avLst/>
          </a:prstGeom>
          <a:gradFill rotWithShape="0">
            <a:gsLst>
              <a:gs pos="0">
                <a:srgbClr val="ff66cc"/>
              </a:gs>
              <a:gs pos="100000">
                <a:srgbClr val="752f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5" action="ppaction://hlinksldjump"/>
          </p:cNvPr>
          <p:cNvSpPr/>
          <p:nvPr/>
        </p:nvSpPr>
        <p:spPr>
          <a:xfrm>
            <a:off x="5614920" y="2319480"/>
            <a:ext cx="271440" cy="16344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6" action="ppaction://hlinksldjump"/>
          </p:cNvPr>
          <p:cNvSpPr/>
          <p:nvPr/>
        </p:nvSpPr>
        <p:spPr>
          <a:xfrm>
            <a:off x="5359320" y="4419720"/>
            <a:ext cx="271440" cy="16344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7" action="ppaction://hlinksldjump"/>
          </p:cNvPr>
          <p:cNvSpPr/>
          <p:nvPr/>
        </p:nvSpPr>
        <p:spPr>
          <a:xfrm>
            <a:off x="2997360" y="3429000"/>
            <a:ext cx="271440" cy="165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8" action="ppaction://hlinksldjump"/>
          </p:cNvPr>
          <p:cNvSpPr/>
          <p:nvPr/>
        </p:nvSpPr>
        <p:spPr>
          <a:xfrm>
            <a:off x="6654960" y="4800600"/>
            <a:ext cx="271440" cy="163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3446280" y="2418840"/>
            <a:ext cx="4878360" cy="2170080"/>
          </a:xfrm>
          <a:prstGeom prst="ellipse">
            <a:avLst/>
          </a:pr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9" action="ppaction://hlinksldjump"/>
          </p:cNvPr>
          <p:cNvSpPr/>
          <p:nvPr/>
        </p:nvSpPr>
        <p:spPr>
          <a:xfrm>
            <a:off x="4673520" y="2895480"/>
            <a:ext cx="271440" cy="16380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1371600"/>
            <a:ext cx="2361960" cy="46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La potencia y efectividad del modelo se incrementan a medida que sus aplicaciones cruzan e interconectan los subsistemas de R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entury Gothic"/>
              </a:rPr>
              <a:t>Regla de oro: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1" lang="es-ES_tradnl" sz="1400" spc="-1" strike="noStrike">
                <a:solidFill>
                  <a:srgbClr val="000000"/>
                </a:solidFill>
                <a:latin typeface="Century Gothic"/>
              </a:rPr>
              <a:t>Es más importante una fuerte coherencia entre instrumentos sencillos que una coherencia débil entre instrumentos sofisticados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294920" y="1891800"/>
            <a:ext cx="734076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El tri</a:t>
            </a:r>
            <a:r>
              <a:rPr b="1" lang="es-ES_trad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á</a:t>
            </a:r>
            <a:r>
              <a:rPr b="1" lang="es-ES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gulo virtuoso del capital huma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0" y="5867280"/>
            <a:ext cx="9158400" cy="990720"/>
            <a:chOff x="0" y="5867280"/>
            <a:chExt cx="9158400" cy="990720"/>
          </a:xfrm>
        </p:grpSpPr>
        <p:sp>
          <p:nvSpPr>
            <p:cNvPr id="117" name=""/>
            <p:cNvSpPr/>
            <p:nvPr/>
          </p:nvSpPr>
          <p:spPr>
            <a:xfrm>
              <a:off x="0" y="5867280"/>
              <a:ext cx="9158400" cy="9907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400" y="6248520"/>
              <a:ext cx="6400800" cy="44136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80"/>
                  </a:solidFill>
                  <a:latin typeface="Arial"/>
                </a:rPr>
                <a:t>HACIA UNA CAPACITACIÓN BASADA EN COMPETENCI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581280" y="3343320"/>
            <a:ext cx="1828800" cy="15238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9520" y="468324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entury Gothic"/>
              </a:rPr>
              <a:t>Que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4520" y="277812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entury Gothic"/>
              </a:rPr>
              <a:t>Sa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49760" y="4672080"/>
            <a:ext cx="9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entury Gothic"/>
              </a:rPr>
              <a:t>P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04840" y="609480"/>
            <a:ext cx="7959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oncepto de Compe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990720" y="1371600"/>
            <a:ext cx="304560" cy="76212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0200" y="609480"/>
            <a:ext cx="7603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371240" y="1405080"/>
            <a:ext cx="712476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La integración de Saber, Querer y Pode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en un Contex</a:t>
            </a:r>
            <a:r>
              <a:rPr b="1" lang="es-ES_trad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t</a:t>
            </a:r>
            <a:r>
              <a:rPr b="1" lang="es-ES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 Laboral específic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ara producir un desempeño dese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0" y="5867280"/>
            <a:ext cx="9158400" cy="990720"/>
            <a:chOff x="0" y="5867280"/>
            <a:chExt cx="9158400" cy="990720"/>
          </a:xfrm>
        </p:grpSpPr>
        <p:sp>
          <p:nvSpPr>
            <p:cNvPr id="131" name=""/>
            <p:cNvSpPr/>
            <p:nvPr/>
          </p:nvSpPr>
          <p:spPr>
            <a:xfrm>
              <a:off x="0" y="5867280"/>
              <a:ext cx="9158400" cy="9907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400" y="6248520"/>
              <a:ext cx="6400800" cy="44136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80"/>
                  </a:solidFill>
                  <a:latin typeface="Arial"/>
                </a:rPr>
                <a:t>HACIA UNA CAPACITACIÓN BASADA EN COMPETENCI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104840" y="609480"/>
            <a:ext cx="7959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oncepto de Compe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700200" y="609480"/>
            <a:ext cx="7603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1371600"/>
            <a:ext cx="380880" cy="30492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9T18:35:50Z</dcterms:created>
  <dc:creator>Esteban Rodriguez</dc:creator>
  <dc:description/>
  <dc:language>en-US</dc:language>
  <cp:lastModifiedBy>UNIVERSIDAD DE CHILE</cp:lastModifiedBy>
  <dcterms:modified xsi:type="dcterms:W3CDTF">2004-03-09T21:08:10Z</dcterms:modified>
  <cp:revision>166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42006183</vt:r8>
  </property>
  <property fmtid="{D5CDD505-2E9C-101B-9397-08002B2CF9AE}" pid="3" name="_AuthorEmail">
    <vt:lpwstr>erodriguez@sintagma.cl</vt:lpwstr>
  </property>
  <property fmtid="{D5CDD505-2E9C-101B-9397-08002B2CF9AE}" pid="4" name="_AuthorEmailDisplayName">
    <vt:lpwstr>erodriguez@sintagma.cl</vt:lpwstr>
  </property>
  <property fmtid="{D5CDD505-2E9C-101B-9397-08002B2CF9AE}" pid="5" name="_EmailSubject">
    <vt:lpwstr>archivo ppt con material de videoconferencia del martes</vt:lpwstr>
  </property>
</Properties>
</file>